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11.wmf" ContentType="image/x-wmf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0.png" ContentType="image/png"/>
  <Override PartName="/ppt/media/image39.png" ContentType="image/png"/>
  <Override PartName="/ppt/media/image32.png" ContentType="image/png"/>
  <Override PartName="/ppt/media/image30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50.png" ContentType="image/png"/>
  <Override PartName="/ppt/media/image48.wmf" ContentType="image/x-wmf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88.png" ContentType="image/png"/>
  <Override PartName="/ppt/media/image108.png" ContentType="image/png"/>
  <Override PartName="/ppt/media/image64.png" ContentType="image/png"/>
  <Override PartName="/ppt/media/image86.png" ContentType="image/png"/>
  <Override PartName="/ppt/media/image69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27.png" ContentType="image/png"/>
  <Override PartName="/ppt/media/image92.png" ContentType="image/png"/>
  <Override PartName="/ppt/media/image16.png" ContentType="image/png"/>
  <Override PartName="/ppt/media/image81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9043-5E49-48DF-A5CA-8009900C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F89-C86F-4C70-AF75-10C6AAB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1C7A-CBA0-403E-922E-4F7C3B5A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A0C-42E5-4F1B-973F-6DD6E7AC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848-16F8-4E44-A144-3E209740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F9C-3AD0-407E-8A57-5BCF88C4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CD8-49A3-4B5A-897D-22DC463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DA1-6FD9-447F-8C83-FB3590E4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FFD-FDBF-4EA1-B9E9-8C3D403E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BC4-3288-4A09-8436-DD9EF6B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A116-1279-4B7C-9B53-3F3BF25C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771-53D2-4B22-B9F9-94324015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C14B-45D5-4C4F-AED2-9FBE243F15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57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we have 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8800"/>
          <a:ext cx="7620120" cy="341316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sc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 mono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 multilay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276720" y="2666880"/>
            <a:ext cx="609480" cy="60984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4197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4197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2666880"/>
            <a:ext cx="609480" cy="60984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609480" cy="609480"/>
          </a:xfrm>
          <a:prstGeom prst="sun">
            <a:avLst>
              <a:gd name="adj" fmla="val 25000"/>
            </a:avLst>
          </a:prstGeom>
          <a:solidFill>
            <a:srgbClr val="ff66ff">
              <a:alpha val="41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3800" y="134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548640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The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Born Approximation model , Parratt’s theory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Sinha’s DWBA (including calculation for Yoneda w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face tension fitt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with fixed slit0.52,1,8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0199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5 mN/m  (between water 72  &amp; Heptane ~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11714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17-', sli=[11,3],bac=0.5 ,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9342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920" y="7142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313-', sli=[11,3],bac=0.5 ,Qz=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5638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5 mN/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32448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73760" y="71424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99-', sli=[11,3],bac=0.5 ,Qz=0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6386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fitted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48 mN/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32484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705720" cy="5113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514200">
            <a:off x="2895480" y="3428640"/>
            <a:ext cx="174600" cy="2286000"/>
          </a:xfrm>
          <a:prstGeom prst="downArrow">
            <a:avLst>
              <a:gd name="adj1" fmla="val 50000"/>
              <a:gd name="adj2" fmla="val 327320"/>
            </a:avLst>
          </a:prstGeom>
          <a:solidFill>
            <a:srgbClr val="0000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594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5638680"/>
            <a:ext cx="336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ue to the surface 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ifference between water and solvent for nanopartic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908800">
            <a:off x="6249600" y="3610080"/>
            <a:ext cx="838080" cy="155520"/>
          </a:xfrm>
          <a:prstGeom prst="rightArrow">
            <a:avLst>
              <a:gd name="adj1" fmla="val 50000"/>
              <a:gd name="adj2" fmla="val 134722"/>
            </a:avLst>
          </a:prstGeom>
          <a:solidFill>
            <a:srgbClr val="0000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276720"/>
            <a:ext cx="2210040" cy="1066680"/>
          </a:xfrm>
          <a:prstGeom prst="ellipse">
            <a:avLst/>
          </a:prstGeom>
          <a:solidFill>
            <a:srgbClr val="0000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1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6640" y="2743200"/>
            <a:ext cx="2457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ntain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bout  th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nd structur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nanoparticle fil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re we able to fit this part by modifying our co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867280"/>
            <a:ext cx="762120" cy="486000"/>
          </a:xfrm>
          <a:prstGeom prst="rightArrow">
            <a:avLst>
              <a:gd name="adj1" fmla="val 50000"/>
              <a:gd name="adj2" fmla="val 39204"/>
            </a:avLst>
          </a:prstGeom>
          <a:solidFill>
            <a:srgbClr val="0000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5638680"/>
            <a:ext cx="314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ould we compare it to thin solvent material film on water surf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1120600">
            <a:off x="5411880" y="1092240"/>
            <a:ext cx="1447560" cy="181080"/>
          </a:xfrm>
          <a:prstGeom prst="rightArrow">
            <a:avLst>
              <a:gd name="adj1" fmla="val 50000"/>
              <a:gd name="adj2" fmla="val 199851"/>
            </a:avLst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914400"/>
            <a:ext cx="1295640" cy="762120"/>
          </a:xfrm>
          <a:prstGeom prst="ellipse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2440" y="76212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we mak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unifor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roduc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ter compres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compared to uncompressed resul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9810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331,Qz=0.22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red-- fit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31 mN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lue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- uncompress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45 mN/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Au 345 Qz=0.44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red--fitt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38 mN/m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lue—uncompressed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=48 mN/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1752480"/>
            <a:ext cx="4257720" cy="337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441972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095880" cy="4707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49760" y="5334120"/>
            <a:ext cx="72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ow does the compression lower surface tention of this syst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rough increasing thickness of the solvent or increasing den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of nanoparticl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urface tension of Heptane</a:t>
            </a:r>
            <a:br>
              <a:rPr sz="40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N/m-1 ±0.02 mN/m-1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9080" y="2666880"/>
            <a:ext cx="88549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086600" cy="6280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z=0.22, k-scan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52680" cy="287208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858000" y="2133720"/>
            <a:ext cx="1649520" cy="304776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34" name=""/>
          <p:cNvSpPr/>
          <p:nvPr/>
        </p:nvSpPr>
        <p:spPr>
          <a:xfrm rot="19965600">
            <a:off x="2895120" y="3428640"/>
            <a:ext cx="304920" cy="976320"/>
          </a:xfrm>
          <a:prstGeom prst="upArrow">
            <a:avLst>
              <a:gd name="adj1" fmla="val 50000"/>
              <a:gd name="adj2" fmla="val 8004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036000">
            <a:off x="5715000" y="4419720"/>
            <a:ext cx="976320" cy="333360"/>
          </a:xfrm>
          <a:prstGeom prst="rightArrow">
            <a:avLst>
              <a:gd name="adj1" fmla="val 50000"/>
              <a:gd name="adj2" fmla="val 7321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114800"/>
            <a:ext cx="1600200" cy="10666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809880"/>
            <a:ext cx="762120" cy="12956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553440" cy="59086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Qz=0.33,k-scan3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2895840" cy="232704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1" name=""/>
          <p:cNvSpPr/>
          <p:nvPr/>
        </p:nvSpPr>
        <p:spPr>
          <a:xfrm rot="19299000">
            <a:off x="3504960" y="3200040"/>
            <a:ext cx="228600" cy="976320"/>
          </a:xfrm>
          <a:prstGeom prst="upArrow">
            <a:avLst>
              <a:gd name="adj1" fmla="val 50000"/>
              <a:gd name="adj2" fmla="val 106772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91520" y="1828800"/>
            <a:ext cx="1573200" cy="259092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3" name=""/>
          <p:cNvSpPr/>
          <p:nvPr/>
        </p:nvSpPr>
        <p:spPr>
          <a:xfrm rot="20239200">
            <a:off x="6172200" y="4038480"/>
            <a:ext cx="1082520" cy="206640"/>
          </a:xfrm>
          <a:prstGeom prst="rightArrow">
            <a:avLst>
              <a:gd name="adj1" fmla="val 50000"/>
              <a:gd name="adj2" fmla="val 1309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4114800"/>
            <a:ext cx="990720" cy="7621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4114800"/>
            <a:ext cx="685800" cy="9907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95280" y="1112760"/>
            <a:ext cx="6820200" cy="57452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z-0.44,k-scan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2362320" cy="213516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8644400">
            <a:off x="3231360" y="2559600"/>
            <a:ext cx="304920" cy="976320"/>
          </a:xfrm>
          <a:prstGeom prst="upArrow">
            <a:avLst>
              <a:gd name="adj1" fmla="val 50000"/>
              <a:gd name="adj2" fmla="val 8004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934320" y="2895480"/>
            <a:ext cx="1925640" cy="251460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876920" y="3429000"/>
            <a:ext cx="457200" cy="609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3657600"/>
            <a:ext cx="1281240" cy="228600"/>
          </a:xfrm>
          <a:prstGeom prst="rightArrow">
            <a:avLst>
              <a:gd name="adj1" fmla="val 50000"/>
              <a:gd name="adj2" fmla="val 140118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ule we and our codes foll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3429000"/>
          <a:ext cx="696600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29000"/>
                    <a:ext cx="69660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4760" y="2743200"/>
            <a:ext cx="41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mental measured intens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733920"/>
            <a:ext cx="2590560" cy="1371600"/>
          </a:xfrm>
          <a:prstGeom prst="downArrowCallout">
            <a:avLst>
              <a:gd name="adj1" fmla="val 47222"/>
              <a:gd name="adj2" fmla="val 47218"/>
              <a:gd name="adj3" fmla="val 16667"/>
              <a:gd name="adj4" fmla="val 66667"/>
            </a:avLst>
          </a:prstGeom>
          <a:solidFill>
            <a:srgbClr val="ccff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1680" y="533412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onstant for K-sc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constant q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429000"/>
            <a:ext cx="609840" cy="685800"/>
          </a:xfrm>
          <a:prstGeom prst="upArrowCallout">
            <a:avLst>
              <a:gd name="adj1" fmla="val 25002"/>
              <a:gd name="adj2" fmla="val 25000"/>
              <a:gd name="adj3" fmla="val 18743"/>
              <a:gd name="adj4" fmla="val 66660"/>
            </a:avLst>
          </a:prstGeom>
          <a:solidFill>
            <a:srgbClr val="ccff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5240" y="2819520"/>
            <a:ext cx="20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Depend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surface tension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576200">
            <a:off x="4571640" y="4800240"/>
            <a:ext cx="976320" cy="380880"/>
          </a:xfrm>
          <a:prstGeom prst="rightArrow">
            <a:avLst>
              <a:gd name="adj1" fmla="val 50000"/>
              <a:gd name="adj2" fmla="val 6408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44720" y="5257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 function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y importa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845820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am vert. size D=0.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657760" cy="451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100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vert. size D=0.04mm, slit=[11,3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can217,Qz=0.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858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.12mm, slit=[11,3], Kscan313,Qz=0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7150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.12mm, slit=[11,3] ,Kscan299,Qz=0.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400040"/>
            <a:ext cx="55627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6294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:  k scan 71-77,Qz=0.33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 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 slit=[11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6553080" cy="495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429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: k scan 133-139,Qz=0.22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6210360" cy="4699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976560"/>
            <a:ext cx="3886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: k scan 71-77,Qz=0.33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7010280" cy="518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3954600"/>
            <a:ext cx="3886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,65,60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67000" y="1523880"/>
            <a:ext cx="6777000" cy="51087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3776760"/>
            <a:ext cx="41911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 monolayer reflectivity fi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724280" cy="419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314600" cy="3524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90480" y="4952880"/>
            <a:ext cx="385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With our fitting code,we’re 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o fit the reflectivity very well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for Au multilayer,but always g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negative density part due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broadening of error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217-241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295280" y="1717560"/>
            <a:ext cx="6720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horizontal electronic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6294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vertical electronic sl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k scan 133-139,Qz=0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647720"/>
            <a:ext cx="7162560" cy="5210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467480" y="2057400"/>
            <a:ext cx="114012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133-139,Qz=0.22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1629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1-77,Qz=0.33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06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: k scan 79-106,Qz=0.44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1=[1,0.1]mm,slit=[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γ=72mN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-169920"/>
            <a:ext cx="5295960" cy="7027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334120" y="609480"/>
            <a:ext cx="3504960" cy="2579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181480" y="3505320"/>
            <a:ext cx="3362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93432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ample 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: k scan 217-241,Qz=0.22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1=[1,0.04]mm,slit=[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3]pixels,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6324480" cy="4814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32767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3886200" cy="3005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3886200" cy="29462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39621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6019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Fitting resolution function(fixed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72 mN/m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Blue – fixed Vert. Slit(0.52mm),Hori. Slit(1.89mm) (sli=[11,3]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Red – fitted Vert. Slit(0.53mm),</a:t>
            </a: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Hori. Slit(3.59m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9800" y="114300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kscan '63-69‘ 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638680" cy="443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4038480" cy="2801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17520" y="4729320"/>
            <a:ext cx="24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ven water can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 reproduced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ue to tempera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or pollu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01000" y="3809880"/>
            <a:ext cx="380880" cy="838440"/>
          </a:xfrm>
          <a:prstGeom prst="upArrow">
            <a:avLst>
              <a:gd name="adj1" fmla="val 50000"/>
              <a:gd name="adj2" fmla="val 5503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1440" y="31104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olution function calculated from slits s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corr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t2008 sample 2,Au monolayer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Kscan Qz=0.22(#217),0.33(#313),0.44(#299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li=[11,3]pix,s1=[1,0.04/0.12]mm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γ=45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886200" cy="2958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3962520" cy="3047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781680" y="1676520"/>
            <a:ext cx="1447920" cy="609480"/>
          </a:xfrm>
          <a:prstGeom prst="ellipse">
            <a:avLst/>
          </a:prstGeom>
          <a:solidFill>
            <a:srgbClr val="ff66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80880" y="3940200"/>
            <a:ext cx="3962520" cy="2917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648320" y="4086360"/>
            <a:ext cx="37335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reflectivity fitting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figure shows the corresponding electron density profile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38480" cy="302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62120" y="2590920"/>
            <a:ext cx="3886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nging 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6(top)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(bottom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corresponding electron density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2590560" cy="19954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495680" y="4343400"/>
            <a:ext cx="2667240" cy="212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3657600" cy="27115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838080" y="4086360"/>
            <a:ext cx="37339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294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429000" cy="2597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866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71800" y="4245120"/>
            <a:ext cx="34290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-scan peak vicinity surface tension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081840" cy="4975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44956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7724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733920" cy="285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2579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7-101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2.488,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743200" y="4079880"/>
            <a:ext cx="37288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276720" cy="24354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267080" cy="31446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2666880" y="3821040"/>
            <a:ext cx="4067280" cy="3036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102-111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=3.111,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right panel shows the difference between data and fitting (data/fit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1236600"/>
            <a:ext cx="7543800" cy="5621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hanging 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 2.8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The decay curves show the beta-scan fitting without structure f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51-254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696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72(cyan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749600"/>
            <a:ext cx="6777000" cy="5108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9343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720" y="304812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ak in a b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’t fi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9718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ff99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57150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ting resolution func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ue – fixed Vert. Slit(0.52mm),Hori. Slit(1.89m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d – fitted Vert. Slit(0.52mm),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ori. Slit(3.61mm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1440" y="838080"/>
            <a:ext cx="406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'71-77', sli=[11,3],bac=0.5 ,Qz=0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51080" y="4348080"/>
            <a:ext cx="24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Unknown 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resents at Q~0.07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The position does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change with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6172200" cy="457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 rot="591600">
            <a:off x="5187600" y="4647240"/>
            <a:ext cx="1523880" cy="152280"/>
          </a:xfrm>
          <a:prstGeom prst="leftArrow">
            <a:avLst>
              <a:gd name="adj1" fmla="val 50000"/>
              <a:gd name="adj2" fmla="val 250177"/>
            </a:avLst>
          </a:pr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55-260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2.262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6172200" cy="4605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191120" cy="34146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43000" y="2590920"/>
            <a:ext cx="2362320" cy="137160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0" y="3352680"/>
            <a:ext cx="1219320" cy="83844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20178600">
            <a:off x="2590560" y="4724280"/>
            <a:ext cx="4038480" cy="258840"/>
          </a:xfrm>
          <a:prstGeom prst="leftArrow">
            <a:avLst>
              <a:gd name="adj1" fmla="val 50000"/>
              <a:gd name="adj2" fmla="val 390056"/>
            </a:avLst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419112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ff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5334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0" y="5334120"/>
            <a:ext cx="34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hen the specular peak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rged in a bump of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factor, it’s difficult to fi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icinity of the pe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61-270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2.8282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0(magenta),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362320" y="1763640"/>
            <a:ext cx="6781680" cy="5094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305600" cy="34671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4429080" cy="34005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3124080"/>
            <a:ext cx="1295640" cy="838440"/>
          </a:xfrm>
          <a:prstGeom prst="ellipse">
            <a:avLst/>
          </a:pr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3, Au multilayer beta-scan(#286-30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.394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45(blue),60(red) mN/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95280" y="1152360"/>
            <a:ext cx="7543800" cy="5705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286160" cy="3438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257800" y="4361040"/>
            <a:ext cx="34290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676520" y="1576440"/>
            <a:ext cx="7162560" cy="528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ug2008 sample 1, Au monolayer beta-scan(#91-95)</a:t>
            </a: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1.866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moothing paramete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6743880" cy="53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48320" y="3581280"/>
            <a:ext cx="4057560" cy="3011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572000" y="457200"/>
            <a:ext cx="4038480" cy="30463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228600" y="533520"/>
            <a:ext cx="3886200" cy="30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57200" y="3995640"/>
            <a:ext cx="3886200" cy="2862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810240" cy="2865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3638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3657600" cy="2800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04920" y="784080"/>
            <a:ext cx="3581280" cy="2725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4343400" y="1143000"/>
            <a:ext cx="4038480" cy="3092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5334120" y="4319640"/>
            <a:ext cx="33526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" y="3962520"/>
            <a:ext cx="3657600" cy="2719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505320" cy="2689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4191120" y="2209680"/>
            <a:ext cx="401004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1360" y="685800"/>
            <a:ext cx="41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Water '79-106', sli=[11,3],bac=0.5 ,Qz=0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715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The slit size Vert.=0.52 Hori.=1.89 could fit the data perfectly.No cerrection to resolution function.And slit(0.52,</a:t>
            </a:r>
            <a:r>
              <a:rPr b="0" lang="zh-CN" sz="2000" spc="-1" strike="noStrike">
                <a:solidFill>
                  <a:srgbClr val="ff0000"/>
                </a:solidFill>
                <a:latin typeface="Comic Sans MS"/>
              </a:rPr>
              <a:t>3.60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) seems also work not b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315200" y="2209680"/>
            <a:ext cx="1144440" cy="2514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162920" y="487692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gure o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6400800" cy="4818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20638800">
            <a:off x="5105520" y="3885840"/>
            <a:ext cx="2279520" cy="198360"/>
          </a:xfrm>
          <a:prstGeom prst="rightArrow">
            <a:avLst>
              <a:gd name="adj1" fmla="val 50000"/>
              <a:gd name="adj2" fmla="val 2872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05240" cy="3247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038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878040"/>
            <a:ext cx="8001000" cy="59799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42696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t2008 purple---sample2(mono) scan#217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blue ---sample4(multi) scan#469 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red ---sample5(multi) scan#5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74674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38188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188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3818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2056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876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 we need to corr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resolu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om slit (0.52,1.89)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lit (0.52,3.6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2032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Big problem: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Ununiformity of sample (beam damage?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&amp; Lack of 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666880"/>
            <a:ext cx="28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Three data sets for Qz=0.22 are different from each other –monolayer is not reproducible…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black—148(w/thoils ),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red—217 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   blue– 2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257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rface tension rul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520" y="12193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monoAu ‘217-', sli=[11,3],bac=0.5 ,Qz=0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0199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Highly depends on surface tensi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lue-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=18 (~heptane)   magenta–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30   red–-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=72(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56386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6-24T00:28:1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